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3C15E528-9DAF-4B39-A32E-C089851078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127EB-4B28-4C6E-9F4B-8FD09B35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8FA3B-03C9-4F2C-A861-EC2E03C5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BF74-AF67-4F35-9EDD-5861863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7490-D8B8-4C54-921A-F86C3E9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938E3-5BFB-4A63-8739-2703DF0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7E304-4F5D-4E3F-95B0-F1FA13E2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F79B2-9B6C-4EBA-A019-5A2AB6A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D7D15-430D-4663-813E-5A05216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F44F-F486-4129-AC67-DF710BD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2DFE-2556-45C3-90DF-7E892B4C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8ED24-DD3E-4D82-8800-FF60187A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7272-2064-4FCF-9B7B-3EB42BD6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A9DA7-E961-4C93-B0F7-0DF662EE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95F1A-4A6E-4DDC-B883-2A61CC8E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456E1-DF8C-49C5-97A1-3745CEE4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4FE3D-C337-457F-9346-05E3E62F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25CB4-2EE4-4C07-A5FE-581B62B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DE67A-9393-47A7-827D-1EB1CEE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9B4B4-1C16-4807-8576-0F30830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CCFF6-11F6-4AC5-9805-631D4AB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F3F0C-E160-4D68-B584-44ECB57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C03F1-7B1E-4397-AEBC-607552D5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B9EA5-FBB6-484A-A6F0-859C2EDF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3BBBF-525B-4675-930F-80D83A96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56099-691B-4C6A-A377-30AF5364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5EDC1-E4F6-44BC-8473-2C51A41D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67AC1-C5B9-4888-B93D-4D4BCAC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ED846-8CFF-4BC4-84A0-7CAE9B1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BDE5C-3FF7-45B2-89C3-EF23559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0682B-A8EE-4923-8C70-BF91C10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50973-F007-4F3D-9503-82F6DF1C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B6623-319D-47C5-AF25-4194D38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A432D-F159-48A4-8D30-BA738D8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31998-25CF-4B99-B822-0EC0724C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109DC-0020-4979-AD78-876BB51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DCAA6-A5D9-4D53-A3C4-793C78AA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D18-641F-4AE8-BF37-46A2B5112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dified version of slide from another presentation2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94D-B098-4CDA-93D0-3D14384B1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dified version of slide from another presentation2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1F7E-5A8F-43F4-AE8A-4E5BE1D07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õhimõiste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5562720" cy="2592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457200" y="-17928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tsessori põhitegevus on mälust info (arvude) lugemine, töötlemine ja mällu tagasi kirjutamine.  Lisaks loeb ja saadab protsessor infot välisseadmetest / seadme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Mis on ja mis ei ole arvuti? Ei ole ühte definitsiooni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 computer is a device which takes data i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ne form, uses it, and produces a differen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orm of information which is related t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Mis on informatsio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üüpiliselt töötleb arvuti ühte nei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umbr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eks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He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isu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ehk pildid ja vide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i käsu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õik need info liigid tuleb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arvuti jaoks kõigepea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numbriteks  teisend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Numbrid arvutis: kahendsüsteem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Arvutis on numbrid jadad nullidest ja ühtedest: a la 01010101011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ks: tehniliselt on üks 0/1 valik (üks bitt) lihtne ehitada transistoridest lüliti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Näide paremal: kolme lüliti ehk kolme bitiga saame esitada 8 eri kombinatsiooni ehk arvu 0 ... 7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048120" cy="308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6640" y="383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Numbrid arvutis: kahendsüsteem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vud 0 ... 7 kahendkuju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77040" y="2444760"/>
            <a:ext cx="3072600" cy="3484440"/>
            <a:chOff x="977040" y="2444760"/>
            <a:chExt cx="3072600" cy="3484440"/>
          </a:xfrm>
        </p:grpSpPr>
        <p:sp>
          <p:nvSpPr>
            <p:cNvPr id="214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Group 5"/>
            <p:cNvGrpSpPr/>
            <p:nvPr/>
          </p:nvGrpSpPr>
          <p:grpSpPr>
            <a:xfrm>
              <a:off x="977040" y="2444760"/>
              <a:ext cx="3072600" cy="3484440"/>
              <a:chOff x="977040" y="2444760"/>
              <a:chExt cx="3072600" cy="348444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977040" y="244476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Group 8"/>
          <p:cNvGrpSpPr/>
          <p:nvPr/>
        </p:nvGrpSpPr>
        <p:grpSpPr>
          <a:xfrm>
            <a:off x="3383640" y="3719520"/>
            <a:ext cx="3540960" cy="542880"/>
            <a:chOff x="3383640" y="3719520"/>
            <a:chExt cx="3540960" cy="542880"/>
          </a:xfrm>
        </p:grpSpPr>
        <p:sp>
          <p:nvSpPr>
            <p:cNvPr id="219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Group 10"/>
            <p:cNvGrpSpPr/>
            <p:nvPr/>
          </p:nvGrpSpPr>
          <p:grpSpPr>
            <a:xfrm>
              <a:off x="3383640" y="3719520"/>
              <a:ext cx="3540960" cy="542880"/>
              <a:chOff x="3383640" y="3719520"/>
              <a:chExt cx="3540960" cy="542880"/>
            </a:xfrm>
          </p:grpSpPr>
          <p:sp>
            <p:nvSpPr>
              <p:cNvPr id="221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12"/>
              <p:cNvSpPr/>
              <p:nvPr/>
            </p:nvSpPr>
            <p:spPr>
              <a:xfrm>
                <a:off x="3383640" y="3719520"/>
                <a:ext cx="1720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t-EE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Kahendkuju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Freeform 13"/>
          <p:cNvSpPr/>
          <p:nvPr/>
        </p:nvSpPr>
        <p:spPr>
          <a:xfrm>
            <a:off x="2960640" y="255600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5549760" y="457200"/>
            <a:ext cx="309276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Teksti kodeerimine numbrit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õik tähed teisendatakse numbrit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Tähtede nummerdamiseks on mitu süsteemi ehk tabelit, põhilised neist 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CII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: ainult nö „ameerika“ tähestik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ICOD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laiendatu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ASCII)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sisaldab kõiki tähesti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UTF8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: levinuim viis Unicode arv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aktselt salves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ide teisendamine numbriteks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ildid tuleb kõigepealt numbriteks teisend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ilt lõhutakse väikesteks ruutudeks, mis saavad värvinumbr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ruute nimetatakse pikslitek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seerij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ade, mis esitab pildi numbrit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äit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neerija, digikaame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 pikslitest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533520" y="1222200"/>
            <a:ext cx="5238720" cy="350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 pikslitest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Lihtsaim variant: mustad ja valged pikslid saavad numbri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0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võ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3700440" y="2190600"/>
            <a:ext cx="25304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726840" y="2200320"/>
            <a:ext cx="5946120" cy="4209480"/>
            <a:chOff x="726840" y="2200320"/>
            <a:chExt cx="5946120" cy="4209480"/>
          </a:xfrm>
        </p:grpSpPr>
        <p:sp>
          <p:nvSpPr>
            <p:cNvPr id="236" name="AutoShape 5"/>
            <p:cNvSpPr/>
            <p:nvPr/>
          </p:nvSpPr>
          <p:spPr>
            <a:xfrm>
              <a:off x="726840" y="2200320"/>
              <a:ext cx="5946120" cy="227196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26840" y="2200320"/>
              <a:ext cx="5945400" cy="4209480"/>
              <a:chOff x="726840" y="2200320"/>
              <a:chExt cx="5945400" cy="4209480"/>
            </a:xfrm>
          </p:grpSpPr>
          <p:sp>
            <p:nvSpPr>
              <p:cNvPr id="238" name="AutoShape 7"/>
              <p:cNvSpPr/>
              <p:nvPr/>
            </p:nvSpPr>
            <p:spPr>
              <a:xfrm>
                <a:off x="726840" y="2200320"/>
                <a:ext cx="5945400" cy="22719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8"/>
              <p:cNvSpPr/>
              <p:nvPr/>
            </p:nvSpPr>
            <p:spPr>
              <a:xfrm>
                <a:off x="2310480" y="22003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Arvuti käsud numbritena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 arvutis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on hulk lihtsaid käske, mida arvuti protsessor ükshaaval täidab: tõstab numbreid mälust ümber, teeb aritmeetikatehteid, võrdleb numbreid, suunab arvutit ühel juhul jätkamata ühelt mäluaadresssilt, teisel juhul teiselt jn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57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m kirjutataks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algul inimesele mugavas programmeerimiskeeles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da arvuti täita ei osk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siis teisendatakse automaatselt arvuti poolt mõistetavasse masinkood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asinkood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tähendab numbrilisi käske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da protsessori elektroonika oskab täit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õik käsud esitatakse numbritena mälu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3200" spc="-1" strike="noStrike">
                <a:solidFill>
                  <a:srgbClr val="1f497d"/>
                </a:solidFill>
                <a:latin typeface="Calibri"/>
              </a:rPr>
              <a:t>Terminolo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801720" y="990720"/>
            <a:ext cx="4333680" cy="578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Mälumahud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4" name="Group 3" descr=""/>
          <p:cNvPicPr/>
          <p:nvPr/>
        </p:nvPicPr>
        <p:blipFill>
          <a:blip r:embed="rId1"/>
          <a:stretch/>
        </p:blipFill>
        <p:spPr>
          <a:xfrm>
            <a:off x="743040" y="1189080"/>
            <a:ext cx="731520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iistva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üüsilised, käegakatsutavad osad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s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laviatuur, monitor, integraalskeemid j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Tarkva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id ja andm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 on jada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äpseid käsk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66760" y="2895480"/>
            <a:ext cx="1143000" cy="9558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1"/>
          <p:cNvSpPr/>
          <p:nvPr/>
        </p:nvSpPr>
        <p:spPr>
          <a:xfrm>
            <a:off x="5791320" y="4038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343400" y="323208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lgorit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n täpne samm-sammuline, kuid mitte tingimata formaalne juhend millegi tegemiseks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iduretsep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Juhend ruutvõrrandi lahendamiseks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n formaalses, ühese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mõistetavas keeles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äskuden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irja pandud algoritm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rvutid suudavad täita ainu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aloogsüste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meid salvestatakse (peegeldatakse) proportsionaalsel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e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termomeeter, vinüülplaat, fo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alsüste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(pidevad) andmed lõhutakse üksikuteks tükkideks, mis salvestatakse erald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e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CD, arvutiprogramm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iri tähtede ja bittide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Ühelt teisele: digitaliseeri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õhiprotsesso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teeb pea kogu töö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õhimäl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hoiab aktiivses kasutuses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olevaid programme ja andmeid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Välismäl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pikaajaliseks säilitamiseks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(kõvaketas,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USB pulk, DVD, ..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Välisseadm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monitor, klaviatuur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, ..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26T07:54:50Z</dcterms:modified>
  <cp:revision>36</cp:revision>
  <dc:subject/>
  <dc:title> </dc:title>
</cp:coreProperties>
</file>